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10.wmf" ContentType="image/x-wmf"/>
  <Override PartName="/ppt/media/image4.jpeg" ContentType="image/jpeg"/>
  <Override PartName="/ppt/media/image7.jpeg" ContentType="image/jpeg"/>
  <Override PartName="/ppt/media/image13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4301-F703-46B5-8EE4-588EEF7BF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4B3E-2DDB-4D76-BB65-A4076012F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D751-3FD5-418A-AE28-E97EF39EA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E2D9-0F16-4F6F-9DEC-EC29BBEBF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04ED-A880-433B-AC92-2374BA8C0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69A0-D39B-4DC2-B6C4-F897A85BB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39CD-BF80-412E-9D08-6C27E3D43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5679-0968-4A37-97C9-BDC8DF273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D333-3A1E-43F4-AB53-3DD0363C3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ADD4-EC8E-4945-9060-9329B705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CA1B-5386-473D-A2FA-716F8895D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713C-769E-49B6-8059-B12FDDC6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61543-00FD-48ED-83EA-FB61EE237C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hyperlink" Target="http://www.jogtheweb.com/" TargetMode="External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Poornut"/>
              </a:rPr>
              <a:t>MSPP Web 2.0 Tool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4796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oornut"/>
              </a:rPr>
              <a:t>Christine Voel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oornut"/>
              </a:rPr>
              <a:t>Calvert County Public Sch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oornut"/>
              </a:rPr>
              <a:t>voelkerc</a:t>
            </a:r>
            <a:r>
              <a:rPr b="0" lang="en-US" sz="3200" spc="-1" strike="noStrike">
                <a:solidFill>
                  <a:srgbClr val="000000"/>
                </a:solidFill>
                <a:latin typeface="Calisto MT"/>
              </a:rPr>
              <a:t>@</a:t>
            </a:r>
            <a:r>
              <a:rPr b="0" lang="en-US" sz="3200" spc="-1" strike="noStrike">
                <a:solidFill>
                  <a:srgbClr val="000000"/>
                </a:solidFill>
                <a:latin typeface="Poornut"/>
              </a:rPr>
              <a:t>calvertnet.k12.md.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 rot="1992000">
            <a:off x="1485720" y="4000680"/>
            <a:ext cx="2666880" cy="1981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&amp; Express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20176200">
            <a:off x="5181480" y="4038120"/>
            <a:ext cx="2667240" cy="19814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Information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&amp; Manage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533520"/>
            <a:ext cx="2590560" cy="1828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Learning &amp; Collab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971800" y="1676520"/>
            <a:ext cx="3200400" cy="3047760"/>
          </a:xfrm>
          <a:prstGeom prst="triangle">
            <a:avLst>
              <a:gd name="adj" fmla="val 5000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Calisto MT"/>
              </a:rPr>
              <a:t>We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Calisto MT"/>
              </a:rPr>
              <a:t>2.0 To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57200" y="5715000"/>
            <a:ext cx="7924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219320" y="457200"/>
            <a:ext cx="6553080" cy="52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ttp://www.netvibes.com/storm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625840" y="12542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8322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438280" y="4095720"/>
            <a:ext cx="428652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09480" y="6019920"/>
            <a:ext cx="769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ttp://titanpad.com/so38i0xYm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 rot="1992000">
            <a:off x="1485720" y="4000680"/>
            <a:ext cx="2666880" cy="1981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&amp; Express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20176200">
            <a:off x="5181480" y="4038120"/>
            <a:ext cx="2667240" cy="19814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Information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&amp; Manage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76720" y="533520"/>
            <a:ext cx="2590560" cy="1828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Learning &amp; Collab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76520"/>
            <a:ext cx="3200400" cy="3047760"/>
          </a:xfrm>
          <a:prstGeom prst="triangle">
            <a:avLst>
              <a:gd name="adj" fmla="val 5000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Calisto MT"/>
              </a:rPr>
              <a:t>We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Calisto MT"/>
              </a:rPr>
              <a:t>2.0 To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048120" cy="18208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066680" y="1295280"/>
            <a:ext cx="2971800" cy="800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267080" y="1981080"/>
            <a:ext cx="2438640" cy="8496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1143000" y="2819520"/>
            <a:ext cx="2514600" cy="6998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2971800" y="3429000"/>
            <a:ext cx="2590920" cy="1646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6"/>
          <a:stretch/>
        </p:blipFill>
        <p:spPr>
          <a:xfrm>
            <a:off x="7086600" y="685800"/>
            <a:ext cx="1266840" cy="1162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7"/>
          <a:stretch/>
        </p:blipFill>
        <p:spPr>
          <a:xfrm>
            <a:off x="6172200" y="2971800"/>
            <a:ext cx="2286000" cy="10476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8"/>
          <a:stretch/>
        </p:blipFill>
        <p:spPr>
          <a:xfrm>
            <a:off x="990720" y="4876920"/>
            <a:ext cx="2286000" cy="75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1243080"/>
            <a:ext cx="9144000" cy="4371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048120" y="586728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 http://en.wiktionary.org/wiki/Web_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62120" y="0"/>
            <a:ext cx="8076960" cy="67467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 rot="16200000">
            <a:off x="2627640" y="-1864080"/>
            <a:ext cx="458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6200000">
            <a:off x="-1072800" y="45018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fode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2695680"/>
            <a:ext cx="3046320" cy="4162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191120" y="476280"/>
            <a:ext cx="4495680" cy="4810680"/>
          </a:xfrm>
          <a:prstGeom prst="wedgeEllipseCallout">
            <a:avLst>
              <a:gd name="adj1" fmla="val -84916"/>
              <a:gd name="adj2" fmla="val 4566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day’s students want to learn differently than in the past.  They want ways of learning that are meaningful to them, ways that make them see- immediately- that the time they are spending on their formal education is valuable, and ways that make good use of the technology they know is their birthr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0" r="16959" b="0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rcRect l="18438" t="17713" r="6146" b="17713"/>
          <a:stretch/>
        </p:blipFill>
        <p:spPr>
          <a:xfrm>
            <a:off x="0" y="4829040"/>
            <a:ext cx="6829560" cy="20289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 rot="21082200">
            <a:off x="0" y="304920"/>
            <a:ext cx="3867120" cy="13143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16761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jogtheweb.com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Keyword: MSP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410080" y="5943600"/>
            <a:ext cx="1219320" cy="6094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 rot="1992000">
            <a:off x="1485720" y="4000680"/>
            <a:ext cx="2666880" cy="1981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&amp; Express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20176200">
            <a:off x="5181480" y="4038120"/>
            <a:ext cx="2667240" cy="19814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Information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&amp; Manage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76720" y="533520"/>
            <a:ext cx="2590560" cy="1828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Learning &amp; Collab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71800" y="1676520"/>
            <a:ext cx="3200400" cy="3047760"/>
          </a:xfrm>
          <a:prstGeom prst="triangle">
            <a:avLst>
              <a:gd name="adj" fmla="val 5000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Calisto MT"/>
              </a:rPr>
              <a:t>We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Calisto MT"/>
              </a:rPr>
              <a:t>2.0 To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4994280"/>
            <a:ext cx="1428840" cy="18637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905120" y="59436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wallwisher.com/wall/msppcoa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 rot="1992000">
            <a:off x="1485720" y="4000680"/>
            <a:ext cx="2666880" cy="1981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&amp; Express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20176200">
            <a:off x="5181480" y="4038120"/>
            <a:ext cx="2667240" cy="19814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Information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&amp; Manage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533520"/>
            <a:ext cx="2590560" cy="1828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Learning &amp; Collab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71800" y="1676520"/>
            <a:ext cx="3200400" cy="3047760"/>
          </a:xfrm>
          <a:prstGeom prst="triangle">
            <a:avLst>
              <a:gd name="adj" fmla="val 5000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Calisto MT"/>
              </a:rPr>
              <a:t>We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Calisto MT"/>
              </a:rPr>
              <a:t>2.0 To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0" t="21621" r="0" b="21621"/>
          <a:stretch/>
        </p:blipFill>
        <p:spPr>
          <a:xfrm>
            <a:off x="0" y="-609480"/>
            <a:ext cx="9144000" cy="34574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295280" y="3352680"/>
            <a:ext cx="655344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1T17:22:35Z</dcterms:created>
  <dc:creator>Christine Voelker</dc:creator>
  <dc:description/>
  <dc:language>en-US</dc:language>
  <cp:lastModifiedBy>Christine Voelker</cp:lastModifiedBy>
  <dcterms:modified xsi:type="dcterms:W3CDTF">2010-07-01T20:02:23Z</dcterms:modified>
  <cp:revision>8</cp:revision>
  <dc:subject/>
  <dc:title>MSPP Web 2.0 Tools</dc:title>
</cp:coreProperties>
</file>